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704-FF07-473A-99EC-D5DC2C1C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6F3-6153-48F5-A014-B962D96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6AE-FFF0-4855-8068-52E89101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F77-0D51-4B5B-B368-C82640FA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371-8CBF-4804-B6B1-0829111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CE2-387D-408E-A569-91F84BF6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A41-006C-4937-AB6F-B67EC35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18A-E339-4207-849B-2FE20BF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A09-FE38-4F69-B176-FD1506A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10E-BD2A-47D4-BA2A-F4035C7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A6C-2A0A-4843-994E-7F40454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83C-4FB5-4AF9-8319-5EB7742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4CD-89B3-4FBA-88C8-CC0DC046B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oly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8436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osed figure formed by three or more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Poly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ans many si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Oct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speedysigns.com/images/decals/400c/Speedy/SHAPES/OCTAGON.gif"/>
          <p:cNvPicPr/>
          <p:nvPr/>
        </p:nvPicPr>
        <p:blipFill>
          <a:blip r:embed="rId1"/>
          <a:stretch/>
        </p:blipFill>
        <p:spPr>
          <a:xfrm>
            <a:off x="2819520" y="1828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852200" y="5533920"/>
            <a:ext cx="591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Octa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Dec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856520" y="5533920"/>
            <a:ext cx="65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Deca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www.math-videos-online.com/images/decagon.jpg"/>
          <p:cNvPicPr/>
          <p:nvPr/>
        </p:nvPicPr>
        <p:blipFill>
          <a:blip r:embed="rId1"/>
          <a:stretch/>
        </p:blipFill>
        <p:spPr>
          <a:xfrm>
            <a:off x="2438280" y="1447920"/>
            <a:ext cx="4572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Congruent Figur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ricksmath.com/images/congruent2.jpg"/>
          <p:cNvPicPr/>
          <p:nvPr/>
        </p:nvPicPr>
        <p:blipFill>
          <a:blip r:embed="rId1"/>
          <a:stretch/>
        </p:blipFill>
        <p:spPr>
          <a:xfrm>
            <a:off x="0" y="1447920"/>
            <a:ext cx="55278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t2.gstatic.com/images?q=tbn:b9NWrlfmje3idM:http://dumontiermathleap.com/WebMaths/FrenchMaths/FrenchHotPot/08_06_CongruentFiguresAndMotions/stars.jpg&amp;t=1"/>
          <p:cNvPicPr/>
          <p:nvPr/>
        </p:nvPicPr>
        <p:blipFill>
          <a:blip r:embed="rId2"/>
          <a:stretch/>
        </p:blipFill>
        <p:spPr>
          <a:xfrm>
            <a:off x="5029200" y="3581280"/>
            <a:ext cx="3733920" cy="2870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32400" y="4057560"/>
            <a:ext cx="5740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Same si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Same shap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ongruent Pentag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coolmath.com/reference/images/poly-pentagon4.gif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685800" y="5943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ides and angles are the s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Equi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lateral Tri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800score.com/content/image/triangle_equilateralA.gif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0" y="1752480"/>
            <a:ext cx="5943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congruent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Equi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ans eq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ateral means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Up Arrow 5"/>
          <p:cNvSpPr/>
          <p:nvPr/>
        </p:nvSpPr>
        <p:spPr>
          <a:xfrm rot="8128800">
            <a:off x="4228920" y="2989440"/>
            <a:ext cx="485640" cy="5270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Up Arrow 6"/>
          <p:cNvSpPr/>
          <p:nvPr/>
        </p:nvSpPr>
        <p:spPr>
          <a:xfrm rot="14014800">
            <a:off x="7679160" y="2895840"/>
            <a:ext cx="484200" cy="58068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Up Arrow 7"/>
          <p:cNvSpPr/>
          <p:nvPr/>
        </p:nvSpPr>
        <p:spPr>
          <a:xfrm>
            <a:off x="5969160" y="6119640"/>
            <a:ext cx="484200" cy="52560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tutornext.com/system/files/u37/polygons.gif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5638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140640" y="228600"/>
            <a:ext cx="26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931000" y="22860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RREGULAR POLYG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image.wistatutor.com/content/feed/u386/rere.GIF"/>
          <p:cNvPicPr/>
          <p:nvPr/>
        </p:nvPicPr>
        <p:blipFill>
          <a:blip r:embed="rId1"/>
          <a:stretch/>
        </p:blipFill>
        <p:spPr>
          <a:xfrm>
            <a:off x="685800" y="1920960"/>
            <a:ext cx="76201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t1.gstatic.com/images?q=tbn:ANd9GcSA6zz5lJO3dkphQX-g4HYgSsRendep-28dNOFYmfWicRe8gdt1"/>
          <p:cNvPicPr/>
          <p:nvPr/>
        </p:nvPicPr>
        <p:blipFill>
          <a:blip r:embed="rId1"/>
          <a:stretch/>
        </p:blipFill>
        <p:spPr>
          <a:xfrm>
            <a:off x="3276720" y="990720"/>
            <a:ext cx="49370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ISOS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ELES TRIANG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own Arrow 4"/>
          <p:cNvSpPr/>
          <p:nvPr/>
        </p:nvSpPr>
        <p:spPr>
          <a:xfrm>
            <a:off x="1219320" y="1371600"/>
            <a:ext cx="484200" cy="762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880" y="2209680"/>
            <a:ext cx="361728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ANS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2446560" y="3505320"/>
            <a:ext cx="13647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475760" y="3352680"/>
            <a:ext cx="13647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495760" y="5867280"/>
            <a:ext cx="1589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9360" y="5533920"/>
            <a:ext cx="51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 CONGRU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DES AND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SCALENE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TRIANG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t1.gstatic.com/images?q=tbn:ANd9GcRbyimVBePFqJ7b9H0Ecrm3qzLzmmDjuN3fnABuuxeu9m5bR-_B"/>
          <p:cNvPicPr/>
          <p:nvPr/>
        </p:nvPicPr>
        <p:blipFill>
          <a:blip r:embed="rId1"/>
          <a:stretch/>
        </p:blipFill>
        <p:spPr>
          <a:xfrm>
            <a:off x="2286000" y="1371600"/>
            <a:ext cx="6553080" cy="482760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5"/>
          <p:cNvSpPr/>
          <p:nvPr/>
        </p:nvSpPr>
        <p:spPr>
          <a:xfrm>
            <a:off x="1295280" y="16765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16800" y="2895480"/>
            <a:ext cx="48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DES OR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Regular Polyg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mathatube.com/images/polygons_1_.jpg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la-solutions.co.uk/content/MVBA/images/ParallelLinesSepar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086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45120" y="5288040"/>
            <a:ext cx="84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ines have the distant apart 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will never m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Up Arrow 5"/>
          <p:cNvSpPr/>
          <p:nvPr/>
        </p:nvSpPr>
        <p:spPr>
          <a:xfrm rot="2076600">
            <a:off x="2977920" y="44704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Up Arrow 6"/>
          <p:cNvSpPr/>
          <p:nvPr/>
        </p:nvSpPr>
        <p:spPr>
          <a:xfrm rot="13436400">
            <a:off x="4766760" y="216504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arallel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ogra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eqsmart.org/shop/images/shearing-parallelogram.gif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T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ang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examiner.com/images/blog/EXID562/images/shape-triangle.gif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131560" y="5334120"/>
            <a:ext cx="50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Tri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www.indstate.edu/cirt/ittrain/resources/tutorials/instructional/hotpotatoes/shape-rectangle.gif"/>
          <p:cNvPicPr/>
          <p:nvPr/>
        </p:nvPicPr>
        <p:blipFill>
          <a:blip r:embed="rId1"/>
          <a:stretch/>
        </p:blipFill>
        <p:spPr>
          <a:xfrm>
            <a:off x="4724280" y="3352680"/>
            <a:ext cx="411480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250280" y="5334120"/>
            <a:ext cx="685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Quadri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iki.urbandead.com/images/1/1c/Square.gif"/>
          <p:cNvPicPr/>
          <p:nvPr/>
        </p:nvPicPr>
        <p:blipFill>
          <a:blip r:embed="rId2"/>
          <a:stretch/>
        </p:blipFill>
        <p:spPr>
          <a:xfrm>
            <a:off x="609480" y="1981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karenfayeth.com/trapezoid.jpg"/>
          <p:cNvPicPr/>
          <p:nvPr/>
        </p:nvPicPr>
        <p:blipFill>
          <a:blip r:embed="rId3"/>
          <a:stretch/>
        </p:blipFill>
        <p:spPr>
          <a:xfrm>
            <a:off x="4267080" y="1523880"/>
            <a:ext cx="4429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ent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tc.usf.edu/clipart/36100/36135/pentagon_36135_lg.gif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72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161000" y="5411880"/>
            <a:ext cx="701424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Penta 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means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latera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2.bp.blogspot.com/_RKC_0XsEoqg/TLpDIN7_gsI/AAAAAAAAAt8/kNWuoiL43GQ/s1600/Quadrilateral.pn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Hex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767240" y="5411880"/>
            <a:ext cx="659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Hexa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ans 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giraffian.com/pictionary-files/h/hexagon.png"/>
          <p:cNvPicPr/>
          <p:nvPr/>
        </p:nvPicPr>
        <p:blipFill>
          <a:blip r:embed="rId1"/>
          <a:stretch/>
        </p:blipFill>
        <p:spPr>
          <a:xfrm>
            <a:off x="1828800" y="1828800"/>
            <a:ext cx="533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2:35:08Z</dcterms:created>
  <dc:creator/>
  <dc:description/>
  <dc:language>en-US</dc:language>
  <cp:lastModifiedBy/>
  <dcterms:modified xsi:type="dcterms:W3CDTF">2010-11-21T02:36:28Z</dcterms:modified>
  <cp:revision>1</cp:revision>
  <dc:subject/>
  <dc:title/>
</cp:coreProperties>
</file>